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  <p:custShowLst>
    <p:custShow name="Presentazione personalizzata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923F5-E507-4CB1-B664-5E522C78C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9B6A-4F9E-41FB-80CF-421A0525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56A1-3128-486F-AE83-AE416FAA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05674-01AE-4AA0-A4B2-A75284D08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8AACE-29A7-472C-8A9F-76C7CA4B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3ED7-A940-4557-B7A9-33F57884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6E22-3436-42B8-B810-D7531A99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A897-FE41-458B-9B21-E826FDE1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8A06-38F1-42F2-8BB3-5F310663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96F6-6121-4B40-8A99-9216FF44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A344-66D2-4E8C-A872-B596A20E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D4F7-973D-4CE3-94BC-96382677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261A-E9F7-489C-9F42-202DAF64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EFE9-FB48-44C1-AE8C-C32D19D9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F9A3-A71D-4586-BE07-EC701FA20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5BEF-8228-47FB-A71B-A5D54BDF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4270-D072-45EB-9716-51F2054C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AA74C-125E-41F6-AF06-13B45259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38A0-3933-480C-AB12-33310B1B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37980-BC93-4743-8821-3B7CEF2B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278E8-0E36-4969-9435-53095368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C205-8120-493C-96D5-75206B80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908C3-9B83-4DBD-B0C3-59FC6130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B6EDB-C7BB-4F8B-B52A-D5EA9773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DB5F-160C-4C18-A121-700CFC366D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4225-B3DE-49CC-A60B-389830C7C7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2209680"/>
            <a:ext cx="740592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4000" spc="-1" strike="noStrike">
                <a:solidFill>
                  <a:srgbClr val="ffcc00"/>
                </a:solidFill>
                <a:latin typeface="Garamond"/>
              </a:rPr>
              <a:t>Progetti di ricerca  sulla valutazione </a:t>
            </a:r>
            <a:br>
              <a:rPr sz="4000"/>
            </a:br>
            <a:r>
              <a:rPr b="1" lang="it-IT" sz="4000" spc="-1" strike="noStrike">
                <a:solidFill>
                  <a:srgbClr val="ffcc00"/>
                </a:solidFill>
                <a:latin typeface="Garamond"/>
              </a:rPr>
              <a:t> Area  lingue</a:t>
            </a:r>
            <a:br>
              <a:rPr sz="3200"/>
            </a:br>
            <a:br>
              <a:rPr sz="4000"/>
            </a:br>
            <a:r>
              <a:rPr b="0" i="1" lang="it-IT" sz="2400" spc="-1" strike="noStrike">
                <a:solidFill>
                  <a:srgbClr val="ffcc00"/>
                </a:solidFill>
                <a:latin typeface="Garamond"/>
              </a:rPr>
              <a:t>presentazione di Rosalba Perini</a:t>
            </a:r>
            <a:r>
              <a:rPr b="0" i="1" lang="it-IT" sz="20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07696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mic Sans MS"/>
              </a:rPr>
              <a:t>INVALSI        USR del FVG         IRRE FV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Incontro Regionale Sui Progetti Nazionali e Regionali di Valutazion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Udine, 28 ottobre 200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345744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00"/>
                </a:solidFill>
                <a:uFillTx/>
                <a:latin typeface="Times New Roman"/>
              </a:rPr>
              <a:t>Fattori che vanno correlati alle variabil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ordine scolastic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tipo di lingua veicol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ontesto di esperienza o tipologia di attività didattic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A46F2-04B3-4CD8-910D-D60CEE7200FE}" type="slidenum">
              <a:t>10</a:t>
            </a:fld>
          </a:p>
        </p:txBody>
      </p:sp>
    </p:spTree>
  </p:cSld>
  <p:transition spd="slow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9900"/>
                </a:solidFill>
                <a:latin typeface="Times New Roman"/>
              </a:rPr>
              <a:t>Senso dell’azione, chiaramente circoscritta ai campi presentat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9900"/>
                </a:solidFill>
                <a:latin typeface="Times New Roman"/>
              </a:rPr>
              <a:t>“</a:t>
            </a:r>
            <a:r>
              <a:rPr b="0" i="1" lang="it-IT" sz="3600" spc="-1" strike="noStrike">
                <a:solidFill>
                  <a:srgbClr val="009900"/>
                </a:solidFill>
                <a:latin typeface="Times New Roman"/>
              </a:rPr>
              <a:t>OSSERVARE   PER   CAPI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9900"/>
                </a:solidFill>
                <a:latin typeface="Times New Roman"/>
              </a:rPr>
              <a:t>RICERCARE   PER   AIUTA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009900"/>
                </a:solidFill>
                <a:latin typeface="Times New Roman"/>
              </a:rPr>
              <a:t>… </a:t>
            </a:r>
            <a:r>
              <a:rPr b="0" i="1" lang="it-IT" sz="3600" spc="-1" strike="noStrike">
                <a:solidFill>
                  <a:srgbClr val="009900"/>
                </a:solidFill>
                <a:latin typeface="Times New Roman"/>
              </a:rPr>
              <a:t>VALUTARE  PER   MIGLIORAR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C3B9-F29B-44E0-A515-B0BD4D7E6D0B}" type="slidenum">
              <a:t>11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50560" y="620280"/>
            <a:ext cx="8569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3 DIRETTRICI DI LETTU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1. Portfolio delle competen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2. Valutazione delle atttività di L. Inglese nell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scuola dell’infanz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3. Valutazione del progetto CL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BE48-E6C4-4ADF-AF43-077029E0D669}" type="slidenum">
              <a:t>2</a:t>
            </a:fld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Times New Roman"/>
              </a:rPr>
              <a:t>1. Portfolio delle competenz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Prospettive di azione congiunta USR FVG e IRRE FVG come accompagnamento e supporto alle scuo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Il valore trasformativo del portfolio emerso nell’ambito del Progetto R.I.So.R.S.E.: verso un sistema di valutazione efficace, coerente, economico  e trasparent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00"/>
                </a:solidFill>
                <a:latin typeface="Times New Roman"/>
              </a:rPr>
              <a:t>Domande aper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Times New Roman"/>
              </a:rPr>
              <a:t>differenziazione portfolio scheda di valutazio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Times New Roman"/>
              </a:rPr>
              <a:t>documentazione del valore aggiunto acquisit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Times New Roman"/>
              </a:rPr>
              <a:t>condivisione di forme, modalità, criteri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00"/>
                </a:solidFill>
                <a:latin typeface="Times New Roman"/>
              </a:rPr>
              <a:t>individuazione di soluzioni economiche, coerenti e trasparenti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A110A-4889-43C2-A106-C0010F956E68}" type="slidenum">
              <a:t>3</a:t>
            </a:fld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00"/>
                </a:solidFill>
                <a:latin typeface="Times New Roman"/>
              </a:rPr>
              <a:t>2. Valutazione delle atttività di L. Inglese nella scuola dell’infanz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imes New Roman"/>
              </a:rPr>
              <a:t>Scenario articolato che lega fattori diversi e che apre un versante infinito di dibattito:</a:t>
            </a:r>
            <a:r>
              <a:rPr b="0" lang="it-IT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imes New Roman"/>
              </a:rPr>
              <a:t>qualità degli apprendimenti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imes New Roman"/>
              </a:rPr>
              <a:t>qualità della didattica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imes New Roman"/>
              </a:rPr>
              <a:t>qualità del profilo professionale dell’insegnante di LS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imes New Roman"/>
              </a:rPr>
              <a:t>qualità dei percorsi di formazione professionalizzan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A7DDE-5BFA-4C01-8B6D-2EECBCBF12C4}" type="slidenum">
              <a:t>4</a:t>
            </a:fld>
          </a:p>
        </p:txBody>
      </p:sp>
    </p:spTree>
  </p:cSld>
  <p:transition spd="slow" advTm="1000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’impianto valutativo è opportuno consideri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imes New Roman"/>
              </a:rPr>
              <a:t>carattere di approccio alla L 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imes New Roman"/>
              </a:rPr>
              <a:t>ricaduta di acquisizione “precoce” della 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cc00"/>
                </a:solidFill>
                <a:latin typeface="Times New Roman"/>
              </a:rPr>
              <a:t>condizionamenti e vantaggi a livello metacognitivo, interculturale  e cognitiv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4830-6E19-439C-8267-1A1055E42EC7}" type="slidenum">
              <a:t>5</a:t>
            </a:fld>
          </a:p>
        </p:txBody>
      </p:sp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Times New Roman"/>
              </a:rPr>
              <a:t>In rapporto ai progressi del bambi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uso di 3 indicatori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1. Efficacia dell’atto comunicativ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2. Atteggiamento manifestato dal bambin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3. Ricettività-produttività verba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8EA9-84B1-43B4-B777-68C6078D705E}" type="slidenum">
              <a:t>6</a:t>
            </a:fld>
          </a:p>
        </p:txBody>
      </p:sp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cc00"/>
                </a:solidFill>
                <a:uFillTx/>
                <a:latin typeface="Times New Roman"/>
              </a:rPr>
              <a:t>In rapporto alla qualità della didattic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1. Tempi di esposizione alla 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2. Quante e quali attività sono svolte in 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3. Quali strumenti, tecnologie e materiali usat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4. Tipologia del modello organizzativo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A4DAD-3CD9-4F44-84C5-A3EC12639024}" type="slidenum">
              <a:t>7</a:t>
            </a:fld>
          </a:p>
        </p:txBody>
      </p:sp>
    </p:spTree>
  </p:cSld>
  <p:transition spd="med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cc0000"/>
                </a:solidFill>
                <a:uFillTx/>
                <a:latin typeface="Times New Roman"/>
              </a:rPr>
              <a:t>3. VALUTAZIONE DEL PROGETTO CLIL 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cc0000"/>
                </a:solidFill>
                <a:latin typeface="Times New Roman"/>
              </a:rPr>
              <a:t>Non può essere applicata una valutazione di tipo tradizionale, ma è importante avere due prospettive chiave del CLIL: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Times New Roman"/>
              </a:rPr>
              <a:t>-  la struttura modulare del progetto 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Times New Roman"/>
              </a:rPr>
              <a:t>- la dimensione interdisciplinare dell’intervento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ffcc00"/>
                </a:solidFill>
                <a:latin typeface="Times New Roman"/>
              </a:rPr>
              <a:t>- il team CLIL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628C-760D-4CB9-8E35-C1C52915193A}" type="slidenum">
              <a:t>8</a:t>
            </a:fld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cc0000"/>
                </a:solidFill>
                <a:uFillTx/>
                <a:latin typeface="Times New Roman"/>
              </a:rPr>
              <a:t>Gli aspetti strutturali della valutazione CLI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imes New Roman"/>
              </a:rPr>
              <a:t>Efficacia del progetto </a:t>
            </a:r>
            <a:r>
              <a:rPr b="1" lang="it-IT" sz="1800" spc="-1" strike="noStrike">
                <a:solidFill>
                  <a:srgbClr val="ffcc00"/>
                </a:solidFill>
                <a:latin typeface="Times New Roman"/>
              </a:rPr>
              <a:t>(contenuti</a:t>
            </a:r>
            <a:br>
              <a:rPr sz="1800"/>
            </a:br>
            <a:r>
              <a:rPr b="1" lang="it-IT" sz="1800" spc="-1" strike="noStrike">
                <a:solidFill>
                  <a:srgbClr val="ffcc00"/>
                </a:solidFill>
                <a:latin typeface="Times New Roman"/>
              </a:rPr>
              <a:t>                     disciplinari, fini, strumenti, organizzazione,</a:t>
            </a:r>
            <a:br>
              <a:rPr sz="1800"/>
            </a:br>
            <a:r>
              <a:rPr b="1" lang="it-IT" sz="1800" spc="-1" strike="noStrike">
                <a:solidFill>
                  <a:srgbClr val="ffcc00"/>
                </a:solidFill>
                <a:latin typeface="Times New Roman"/>
              </a:rPr>
              <a:t>                      documentazione)</a:t>
            </a:r>
            <a:br>
              <a:rPr sz="1800"/>
            </a:br>
            <a:r>
              <a:rPr b="1" i="1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imes New Roman"/>
              </a:rPr>
              <a:t>Efficienza impianto organizzativo (fattibilità e flessibilità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imes New Roman"/>
              </a:rPr>
              <a:t>Tipologia di competen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cc00"/>
                </a:solidFill>
                <a:latin typeface="Times New Roman"/>
              </a:rPr>
              <a:t>Aspettative e competenze degli insegnanti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61D63-1F16-4DEE-AA03-AC1AC4FAC2A3}" type="slidenum">
              <a:t>9</a:t>
            </a:fld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3:15:04Z</dcterms:created>
  <dc:creator>direzione didattica</dc:creator>
  <dc:description/>
  <dc:language>en-US</dc:language>
  <cp:lastModifiedBy>Ispettore Luigi Torchio</cp:lastModifiedBy>
  <dcterms:modified xsi:type="dcterms:W3CDTF">2004-10-31T11:41:37Z</dcterms:modified>
  <cp:revision>80</cp:revision>
  <dc:subject/>
  <dc:title>Progetto Il Intercomprensione tra lingue romanze</dc:title>
</cp:coreProperties>
</file>